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494-7356-4BE2-B54A-62EE790C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A63-B479-4B57-8410-774FB996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F2F-A9C1-4D86-83AD-3C325458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E71-B6CE-4259-A2B7-79297BC5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AC2-BC33-41FA-97B5-AFB252D1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359-0522-4B9E-B015-C7E51401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8E9-A9A9-434C-A027-04979A4A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04D-8AA7-4F99-B92E-00C5D304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209-9399-4A04-8CA3-51AF21EA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CF6-27C3-43E0-AF20-3BDEA13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B63-1173-4BFB-A8D0-0B034E1F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38F-05AE-4B3E-81FF-19DB33AC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C976-C608-4303-8DA7-D6E0C594D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1.wav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1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1A.WAV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9c.wav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1.wav" TargetMode="External"/><Relationship Id="rId2" Type="http://schemas.openxmlformats.org/officeDocument/2006/relationships/hyperlink" Target="file:///tmp/home/.config/libreoffice/4/user/gallery/CEC1A.WAV" TargetMode="External"/><Relationship Id="rId3" Type="http://schemas.openxmlformats.org/officeDocument/2006/relationships/hyperlink" Target="file:///tmp/home/.config/libreoffice/4/user/gallery/cecil2.wav" TargetMode="External"/><Relationship Id="rId4" Type="http://schemas.openxmlformats.org/officeDocument/2006/relationships/hyperlink" Target="file:///tmp/home/.config/libreoffice/4/user/gallery/cecil3.wav" TargetMode="External"/><Relationship Id="rId5" Type="http://schemas.openxmlformats.org/officeDocument/2006/relationships/hyperlink" Target="file:///tmp/home/.config/libreoffice/4/user/gallery/cecil4.wav" TargetMode="External"/><Relationship Id="rId6" Type="http://schemas.openxmlformats.org/officeDocument/2006/relationships/hyperlink" Target="file:///tmp/home/.config/libreoffice/4/user/gallery/cecil7.wav" TargetMode="External"/><Relationship Id="rId7" Type="http://schemas.openxmlformats.org/officeDocument/2006/relationships/hyperlink" Target="file:///tmp/home/.config/libreoffice/4/user/gallery/cecil5.wav" TargetMode="External"/><Relationship Id="rId8" Type="http://schemas.openxmlformats.org/officeDocument/2006/relationships/hyperlink" Target="file:///tmp/home/.config/libreoffice/4/user/gallery/cecil9c.wav" TargetMode="External"/><Relationship Id="rId9" Type="http://schemas.openxmlformats.org/officeDocument/2006/relationships/hyperlink" Target="file:///tmp/home/.config/libreoffice/4/user/gallery/cecil9a.wav" TargetMode="External"/><Relationship Id="rId10" Type="http://schemas.openxmlformats.org/officeDocument/2006/relationships/hyperlink" Target="file:///tmp/home/.config/libreoffice/4/user/gallery/cecil8.wav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CEC1A.WA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2.wav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3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4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5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8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7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9a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105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ory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the caterpill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2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819520" y="2209680"/>
            <a:ext cx="31334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76520" y="3657600"/>
            <a:ext cx="1104840" cy="117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181480" y="3657600"/>
            <a:ext cx="120996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352680" y="5105520"/>
            <a:ext cx="113364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276720" y="3657600"/>
            <a:ext cx="102852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181480" y="510552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523880" y="502920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dadd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971800" y="838080"/>
            <a:ext cx="1652760" cy="1752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952880" y="838080"/>
            <a:ext cx="189072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666880" y="3886200"/>
            <a:ext cx="2982960" cy="1306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52360" y="5334120"/>
            <a:ext cx="56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 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791040" cy="2076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733920" y="228600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</a:t>
            </a:r>
            <a:br>
              <a:rPr sz="44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971800" y="3124080"/>
            <a:ext cx="2019240" cy="146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12880" y="5433840"/>
            <a:ext cx="832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aid “Cecil what have you done ?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been s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25909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152388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The end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rId1"/>
          </p:cNvPr>
          <p:cNvSpPr/>
          <p:nvPr/>
        </p:nvSpPr>
        <p:spPr>
          <a:xfrm>
            <a:off x="802080" y="49680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cil1.w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cil was a caterP cecil was my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/>
          </p:cNvPr>
          <p:cNvSpPr/>
          <p:nvPr/>
        </p:nvSpPr>
        <p:spPr>
          <a:xfrm>
            <a:off x="751680" y="1557360"/>
            <a:ext cx="44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CIA.w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st time I saw him he was two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/>
          </p:cNvPr>
          <p:cNvSpPr/>
          <p:nvPr/>
        </p:nvSpPr>
        <p:spPr>
          <a:xfrm>
            <a:off x="684360" y="2781360"/>
            <a:ext cx="936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/>
          </p:cNvPr>
          <p:cNvSpPr/>
          <p:nvPr/>
        </p:nvSpPr>
        <p:spPr>
          <a:xfrm>
            <a:off x="468360" y="3860640"/>
            <a:ext cx="936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/>
          </p:cNvPr>
          <p:cNvSpPr/>
          <p:nvPr/>
        </p:nvSpPr>
        <p:spPr>
          <a:xfrm>
            <a:off x="468360" y="4365720"/>
            <a:ext cx="936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6"/>
          </p:cNvPr>
          <p:cNvSpPr/>
          <p:nvPr/>
        </p:nvSpPr>
        <p:spPr>
          <a:xfrm rot="247200">
            <a:off x="4858920" y="3645000"/>
            <a:ext cx="936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/>
          </p:cNvPr>
          <p:cNvSpPr/>
          <p:nvPr/>
        </p:nvSpPr>
        <p:spPr>
          <a:xfrm>
            <a:off x="539640" y="4941720"/>
            <a:ext cx="936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8"/>
          </p:cNvPr>
          <p:cNvSpPr/>
          <p:nvPr/>
        </p:nvSpPr>
        <p:spPr>
          <a:xfrm>
            <a:off x="5219640" y="4797360"/>
            <a:ext cx="936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9"/>
          </p:cNvPr>
          <p:cNvSpPr/>
          <p:nvPr/>
        </p:nvSpPr>
        <p:spPr>
          <a:xfrm>
            <a:off x="4788000" y="4149720"/>
            <a:ext cx="936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278136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CIL2.wav eaten ba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547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cm cecil 3.w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52240" y="438480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ten siste cecil4.wa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8200" y="48690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cm cecil 5.w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5280" y="36450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cm cecil 7.w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74560" y="407664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ten daddy cecil9a.w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08200" y="4818240"/>
            <a:ext cx="189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’ve been s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cil 9c.w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0"/>
          </p:cNvPr>
          <p:cNvSpPr/>
          <p:nvPr/>
        </p:nvSpPr>
        <p:spPr>
          <a:xfrm>
            <a:off x="900000" y="5516640"/>
            <a:ext cx="936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77840" y="5445000"/>
            <a:ext cx="19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ten mum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cil8.w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frie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543800" cy="235584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86200" y="205740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</a:t>
            </a:r>
            <a:br>
              <a:rPr sz="44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971800" y="3124080"/>
            <a:ext cx="2019240" cy="1467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93360" y="5334120"/>
            <a:ext cx="62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ba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110484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29200" y="1523880"/>
            <a:ext cx="1028880" cy="106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3760" y="5486400"/>
            <a:ext cx="550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438280" y="388620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114800" y="3886200"/>
            <a:ext cx="130032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19520" y="2895480"/>
            <a:ext cx="3066840" cy="146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800" y="4648320"/>
            <a:ext cx="75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4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 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733920" y="175248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sist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95480" y="1295280"/>
            <a:ext cx="1105200" cy="1171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209680" y="434340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114800" y="4419720"/>
            <a:ext cx="1300320" cy="1299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79320" y="5738760"/>
            <a:ext cx="56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 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 frie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86760" y="4343400"/>
            <a:ext cx="740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6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417204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mum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19810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514600" y="609480"/>
            <a:ext cx="150984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2982960" cy="1306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47440" y="5105520"/>
            <a:ext cx="56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 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 frie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86760" y="4343400"/>
            <a:ext cx="740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8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 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6724440" cy="22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20:29:15Z</dcterms:created>
  <dc:creator>Richard</dc:creator>
  <dc:description/>
  <dc:language>en-US</dc:language>
  <cp:lastModifiedBy>Richard Walter</cp:lastModifiedBy>
  <cp:lastPrinted>2003-04-19T12:11:55Z</cp:lastPrinted>
  <dcterms:modified xsi:type="dcterms:W3CDTF">2003-04-19T12:19:03Z</dcterms:modified>
  <cp:revision>15</cp:revision>
  <dc:subject/>
  <dc:title>Cecil was a caterpillar </dc:title>
</cp:coreProperties>
</file>